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BA3-4255-40DB-A9F4-6CACC15F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BE2-6233-48F6-A106-F10E37B8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5A0F9-E39C-43B7-A41E-740500A8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DCA31-376E-4083-8589-EDC3FF12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1A03C-5762-4B2B-85F9-940C0CF4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A78BA-23F4-4986-B74C-02A9BFD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3DD01-11F0-4693-AD6D-898E4DB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5A94B-38D3-4602-B584-05650D6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7BF9D-65DA-4094-9EC4-E8317174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17971-8635-4FF0-ACC1-66D85DC0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1A859-56AF-4ECA-B16B-87C30B61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A642E-F346-4AE1-9E92-AAA8778E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F2F-ED76-4D94-91E2-3582D6EC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BC15F-CADA-49F3-8103-EA95CF3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5F7EB-0949-4E4F-94B0-973ACE61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BEB3B-FE78-4797-B33E-99EF679E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D0F22-61F7-40D9-BAE4-6981FEA4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03251-58B3-448D-B40D-5ED050CE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FD60C-A8D1-405D-835D-21A9422D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A2A65-F023-40A4-B373-1DA458AE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1EF10-87FC-4503-B01D-7466A7DB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AEC30-D418-4AB1-9FCF-8FA7D933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AFCF2-FC12-46CF-A2CE-35FD3FBE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983-8E85-43B1-9A9C-8012B3C3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95FCE-D4DE-4118-A7D8-7BEE4901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8EB3F-A5C4-4150-AF30-B89E240D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7BD02-E749-456A-BAAD-22D1C854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9E3B4-9C2E-4B9F-B110-7EFFD42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52647-EACC-4CA7-94F6-7EF69A21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16698-9D0B-450D-9719-267E1138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0EA62-07A6-4473-8A72-D890FBE1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86902-E53E-492B-92A0-E126A90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6F1D9-363C-4B4F-B68D-C6F4495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09ACE-C695-4840-A446-C3BD21FA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5255-FCC0-4830-AEE8-8C571A6E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67579-BA85-4AA8-BBC3-F03B0C9D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73D2C-2EF0-4D3B-B161-E75A5146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1259C-7FD8-46A5-B2F0-A6B31B30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D91E5-CE1C-4D3A-AA00-BADAFCEB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91AC2-5963-474D-8B5D-431A9C42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EA526-71CD-4A50-B431-59F5D3B5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41D5F-9D75-4039-91E2-73EECC5F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25083-B99D-4313-B732-72D0491D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461D7-5925-49B4-94C1-02DDE6C5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84ACF-911F-4A30-924F-484F08B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AB03-78A3-452A-BF3A-10961519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E19BF-A0CB-4618-AB9E-6976F75F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CB8BF-6D5C-444E-9B6B-1479976C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2BBC1-2F1D-4423-831F-27809C90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6EFBD-7D33-4170-BECC-E929F97D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E667E-836C-4A78-BA84-6BA057C1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1FC9-EF05-49A2-AA6D-6155089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2AD1-D5C0-46B2-BBF9-725F8429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CE5D-30A3-4D4D-9196-17B5E0D8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3628-CF59-44A0-8EAA-F5271C9E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AC5C-D88C-44E8-BADB-91E6847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080-C12F-444A-9CB0-01943F0A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A2A8-3108-4BA5-BD5B-8EF6F03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510D-5513-4AAD-82FF-4B9710E6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593E-3C42-4258-92D3-5BF75FEA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3B32-EC73-474B-B742-38C09F63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2F85-3ACB-4E89-B8AE-8D2F86C5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0BFF-DE21-45DD-BBF5-DADAD8EA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42FB-65FB-426F-BE51-85F8993F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8942-BAF0-4EA7-B8D1-3A62713C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0D86-1A17-4121-9C02-8FF0FAD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386D-AE02-4F49-ADC2-D29BCFDA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C90-C079-4E2B-BFE0-DC0C7C1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CB35-E3CA-4EFC-88DF-713C234E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CFC3-A96A-4446-85B6-A6A42E6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120E-D24E-4433-8583-52201016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F777F-8AEC-4A22-B7D4-72A8C12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E657-BBE9-4B8F-8E71-EABB4F69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9B89-AD3A-44B7-895B-3532531C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F41A-1E33-4A6F-8CFD-7C3B639E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1CFA-9019-4D54-A1CD-DE6D4615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E625-EAF8-4E02-93FC-85B9A362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BBC9-A8FC-4CF6-BB41-D93C981C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A97-8FAD-49BB-967F-F3154C0B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D2FF5-E0F4-415E-B1D6-15611FBD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D1973-999D-47C5-AA70-17DE9A3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F6B12-8BB4-42CE-BD93-5E475DE6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96E2-31B2-4180-9533-0A0B92F5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4733-07C6-47AC-90BD-D424E1B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2EB0-3DF7-4084-993F-1DCA0478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E411-CB77-4ED1-B089-499EB420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94D5-72CF-43D6-9CF5-58878748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825C-8F53-4547-ADC2-5B56E5E2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4026-2F35-4A24-A0DE-073CEF6F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E91-D5C1-4D55-9A9F-C2811B45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6249-7AD7-4F00-B0ED-CBC5EFF5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988C-C1B2-4293-A976-6F0D1AE7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C1E3-3F42-47A6-A8E3-3B19DB53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CE1C8-1B6A-47FF-8C73-3C877B71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04C01-18FA-46F6-A756-8BF1E337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1F7E6-55E6-4612-A47A-882DB18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F588-9170-4AF5-8DAC-B97BE0C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EA9DC-7456-407A-91D3-8B2E08D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CA515-8569-41C8-B17A-FA58F2F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E512-C3C2-4999-96E9-0AB925D2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EFE-DB00-4E05-8475-8860675D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2B7C-B0DF-4A58-B930-59BED21B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4BF7-907E-4315-BB50-53DDB3FC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7EA72-2BD4-4AB2-A8CB-469BED26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98B5B-B6E9-47FE-A45B-173ED3EF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16D24-90F0-481B-B2D9-B3CE7694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49F0B-7123-4BEB-9898-E5BD71C1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B4751-563E-4CF8-A297-4182DB3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00F0-44BE-4111-B979-0D88C22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08B90-A892-4D69-8479-8BDF423A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F15A6-7421-4B35-B50C-9FB2CC36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A9B-F266-48A2-BA3C-58ED6A6C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FD23-7208-4F23-AF19-DB39B5A3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D7D2-A015-45CB-96B6-DB487CA0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34EDE-5A59-492B-A9C1-4DCE3EB1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71F3D-D766-462C-9543-B3150B8C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93CFE-F298-4411-8E7B-7E1470D4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D7A97-B4AF-4FED-A8D1-037CD49A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465F4-DCD9-4144-BDBA-7B5A790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79252-685D-444A-800E-9BE403F8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E7154-4FB4-4BA2-BB63-ECEBB92B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1C68-7206-48B9-ADD3-C0C16701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C6C-85B0-4E6D-B72D-2E3F8F6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E88CD-513A-46CB-8745-E68BA441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6FFE0-B044-4AFB-B9C2-80F3C7A9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9663-DBB4-4706-A777-7F7324E4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F712-7358-4E71-A01B-CD79CD79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6A382-AFA0-4EA1-B97A-327790AE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D8DCB-C213-49E2-B321-4F7C1C39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208C7-6C6C-4756-9BCF-9119E6CA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23F71-6735-4B1F-97D2-7BB61BE4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9009C-EB71-4109-8A89-92E7E62A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C6760-57FA-407C-A6BF-F1800793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B1C-5713-4402-82CE-3833DA1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1681A-8057-4DCD-AFB1-808EDAF2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CD838-5855-4020-A921-9975B5B4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A6C0-B988-4EF1-85A1-9170C1B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042CA-1301-49B0-8B47-FB55C98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26DFD-E515-43E2-8F11-EFFD8AC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95329-7C5E-49D1-952C-D0FBCD45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13CCD-D2E6-484A-A999-0E5AA004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A38B6-E389-4990-BC5A-BF161686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8B703-08C8-4A22-9FCF-5DDD68CB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61B82-8A57-4E87-8824-1F5B81F6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F7C0-74EA-4988-A48E-2C10ACBF59A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F281-3CF5-4054-AD23-232C229A03B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86F5-EE23-4B0B-AD93-3F90C3ED861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E99-2E08-4C8D-BFBD-3763610C40B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D8C7-1D59-4BB2-838F-918E4DDD49B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AB9D-45D6-4D43-9096-9B47E3DA3C3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18E-2457-4151-80E6-4A71DB8283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5FD-5209-47D4-B2EB-DBE061E1024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0F11-A172-4727-8787-BD30630EC2E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F7E7-C521-44B4-877C-B6B0FFDD42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C161-259B-48DF-A825-11855567D6DC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238B-EF5A-4A6C-8568-DBAB29FC4BA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EYOND BREAKING NEW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6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lpful tips for successful feature wri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syntax and phras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voice and tens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detail and descrip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other dramatic techniqu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ndard Story Structu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traditional text to convey informa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inverted pyramid is rarely used in feature stories. While it's an efficient way to organize facts in a news story, it is NOT an engaging way to organize ideas in a featu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hort-Form Story Struc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colorful, creative layouts that are easy to produce and appeal to readers' short attention spa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ggestions for using a more visual approa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fi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files are more than a who-what-when-where-why rehash of fac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profil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veals feeling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poses attitud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ptures habits and mannerism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ntertain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forms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earching and Writing Profi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licit your subject's suppor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view and obser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nd your focu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up with further interviews and research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ucture your sto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ps on working with photographe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ys to paint a better portrait: capturing details, re-creating scenes, and adding quotes and dialogu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ecklist of questions to ask yourself when reporting and writing profil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terprise Projec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cial stories that allow reporters to reach beyond the routin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provide in-depth examination of people and issu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are creative, ambitious and uniqu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often become special sections or multi-part ser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do I find time for enterprise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ert advice on reporting and writing enterprise stor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vestigative Repor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a free society, some journalists do more than just explain—they expo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ree Basic Elements of Investigative Reporting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at the investigation be the work of the reporter, not a report of an investigation made by someone els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at the subject involves something of reasonable importa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at others are attempting to hide these matters from the publ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World of Featu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onalizing the news with stories that educate and entertain. Feature stories often focus on issues that are less timely and more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persona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trends, relationships, entertainm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include topics, treatments, styles and structures you won't find in standard news stori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 news vs. soft news: What do these terms 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gging up dirt: Advice for investigative report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ackage Plan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teamwork and working with the editor, photographer and designer to turn stories into appealing packag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hort-Form Alterna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lternatives to narrative text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densing data for readers with short attention span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hort-form formats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ast-fact box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io box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hecklist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ist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quiz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tep-by-step guide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actual index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diagram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imeline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quote collec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Editorials and Colum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editorials, columns and reviews, the writer's opinions aren't just allowed, they're encouraged. They're essentia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Knight Scroll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include an editorial in each issue tied to a front page news sto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ditorials: where publications take a st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umns: where the options are endles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ing commentary: Advice for columnis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Re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ers need your expert guidance to find the best performances and produc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tinction between "critic" and "reviewer."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graphic extras that make reviews more reader-friendl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to write criticism that gets good review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mon Categor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festyl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lth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ience and technolog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tertainm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o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mes and garde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pular Types of Feature Stor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onality profil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uman-interest sto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or sto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ckground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end sto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ction pie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lashbac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-to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umer guid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onal narrati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enerating Story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great stories everywhere, just waiting to be discovered. The four best angles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to save time...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to save money...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to be loved...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to make money.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Where to Find Those Great (But Elusive) Story Idea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tart compiling a list: Look for ideas everywhere; then jot them dow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rganize your ideas by topic (people, places, trends) or by treatment (profiles, photo stories, how-to guides)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best places to look for ideas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your publication's archive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your competitor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V, magazines, newspapers, Web site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ews release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ader suggestion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rainstorming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to Tell if Your Idea is a Good O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ight ways to assess a story idea before you try selling it to an edit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e page 11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Got a Good Idea? Here’s How to Turn it Into a Story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e if it's been don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cus your angl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lk to your editor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your research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n the packag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the sto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eature Sty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stories require a livelier, looser, more literary vo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"The New Journalism" pioneered by Tom Wolfe, Hunter S. Thompson and Gay Talese in the 1960s. Reporters began borrowing literary techniques from novelis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In Cold Blood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y Truman Capote – Nonfiction no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day, feature writers still rely on literary techniques you won't find in standard news stori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21:27:26Z</dcterms:created>
  <dc:creator>Administrator</dc:creator>
  <dc:description/>
  <dc:language>en-US</dc:language>
  <cp:lastModifiedBy>Administrator</cp:lastModifiedBy>
  <dcterms:modified xsi:type="dcterms:W3CDTF">2013-07-21T21:10:23Z</dcterms:modified>
  <cp:revision>19</cp:revision>
  <dc:subject/>
  <dc:title>Chapter 6</dc:title>
</cp:coreProperties>
</file>